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9712-A842-4375-8C2C-3B19A2A26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gene (transcription unit) =  80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primary transcript = 80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mature RNA = 1200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ize protein = 400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“junk D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ong evidence for a single origin in evolutionary 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4D94-3E85-44AD-9164-C3A8A75678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CC8E-D003-4304-911A-AB4F957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BEC3-42CF-4DC0-83DA-C055BEB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2BFA-BDB9-4B8B-A957-6CD002B22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5FA4-2536-46B3-88D3-8F3BA651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5EC3-0297-4BB4-8DEF-152DE52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4712-E7C1-43B1-A451-0758C83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8269-C2DB-4870-B5AE-78EDAE49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3E20-1C03-4BDD-8F8B-A7A6B76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6A9-62FC-4ADD-9EC0-0B722E01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FAE1-F5CE-4224-A843-DEF25C11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9CF4-A065-49ED-9119-325BB8FE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86A-3961-42A0-A143-6ED80E271D92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46102" t="0" r="7546" b="4542"/>
          <a:stretch/>
        </p:blipFill>
        <p:spPr>
          <a:xfrm>
            <a:off x="228600" y="2743200"/>
            <a:ext cx="3473280" cy="3962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7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4599000" y="457200"/>
            <a:ext cx="4545000" cy="333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12240" y="42667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DD1-3054-4754-B9AE-FD7B022F7CE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6039"/>
          <a:stretch/>
        </p:blipFill>
        <p:spPr>
          <a:xfrm>
            <a:off x="609480" y="3276720"/>
            <a:ext cx="8153640" cy="3438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imary transcrip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cessing mRNA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ing RNA from RNase in cytoplas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 5’ ca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 polyA tai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move intr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6400" y="5790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4520" y="5790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UG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850C-98E1-48C4-A47A-1610D61F16A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8839440" cy="1684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tecting R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5’ cap add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 trinucleoside (G-P-P-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s mR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rom RNase (hydrolytic enzymes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’ poly-A tail add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50-250 A’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cts mR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rom RNase (hydrolytic enzymes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elps export of RNA from nucleu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49680" y="518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9600" y="518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E442-88FD-4765-B1C5-EC8A8682CA0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6292800"/>
            <a:ext cx="3429000" cy="337320"/>
          </a:xfrm>
          <a:prstGeom prst="rect">
            <a:avLst/>
          </a:prstGeom>
          <a:solidFill>
            <a:srgbClr val="e9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TR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ranslated Reg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cing &amp; splicing mR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e-mRNA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mR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 ou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tervening sequ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lice together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x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pressed sequenc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higher 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90% or more of gene can be intr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ne knows why…ye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’s a Nobel prize waiting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19920" y="1905120"/>
            <a:ext cx="3124080" cy="4952880"/>
            <a:chOff x="6019920" y="1905120"/>
            <a:chExt cx="3124080" cy="4952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786924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019920" y="1905120"/>
              <a:ext cx="2971800" cy="2128680"/>
            </a:xfrm>
            <a:prstGeom prst="wedgeEllipseCallout">
              <a:avLst>
                <a:gd name="adj1" fmla="val 21421"/>
                <a:gd name="adj2" fmla="val 131504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“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VERAGE”…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“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gene” = 80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pre-mRNA = 80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mature mRNA = 1200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protein = 400a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lotsa “JUNK”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scovery of Split ge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7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9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5670720"/>
            <a:ext cx="2666880" cy="103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311796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4960" y="1828800"/>
            <a:ext cx="1904760" cy="2324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00400" y="18288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7520" y="42663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ichard Rober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2440" y="4266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ilip Sh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9040" y="46472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 Bio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46240" y="464724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72680" y="43264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enoviru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7240" y="4707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ommon col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124040" y="5219640"/>
            <a:ext cx="609840" cy="533160"/>
          </a:xfrm>
          <a:custGeom>
            <a:avLst/>
            <a:gdLst>
              <a:gd name="textAreaLeft" fmla="*/ 95040 w 609840"/>
              <a:gd name="textAreaRight" fmla="*/ 533880 w 60984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4EB-514D-4401-94A7-435BAD91D48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179" b="0"/>
          <a:stretch/>
        </p:blipFill>
        <p:spPr>
          <a:xfrm>
            <a:off x="4222800" y="380880"/>
            <a:ext cx="4763880" cy="6311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nRNP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all Nuclear Ribinucleoprotein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mall nuclear RNA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+ protein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liceoso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ral snRNP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cognize splice site sequen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ut &amp; past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ibozy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ome mRNA can splice itself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NA as enzyme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licing enzy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E51-1CBF-489F-A892-A8681409FE2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zy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NA as enzy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768320"/>
            <a:ext cx="6553440" cy="898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3733920" cy="2774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880" y="559980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dney Altma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70040" y="55998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homas Ce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996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82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89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7040" y="59266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Y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68600" y="59266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U of Colorad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588C-37B5-41DB-B159-6A7272A746F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2771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licing detai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room for mistakes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ing &amp; splicing must be exactly accu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single base added or lost throws off the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reading fr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3429000"/>
            <a:ext cx="8001000" cy="160020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416484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AU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A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G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7080" y="3351960"/>
            <a:ext cx="61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CTATG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83360" y="37584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5105520"/>
            <a:ext cx="8001000" cy="1676160"/>
          </a:xfrm>
          <a:prstGeom prst="rect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0240" y="5917320"/>
            <a:ext cx="63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|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G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A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GG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CA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7080" y="5104800"/>
            <a:ext cx="61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CTATG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76440" y="5511240"/>
            <a:ext cx="48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UGC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f116a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UCCGAUAAGGGCCA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0240" y="457128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Met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Ser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sp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Lys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Gly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H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0600" y="6323760"/>
            <a:ext cx="46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Met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Val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Arg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r>
              <a:rPr b="1" lang="en-US" sz="2800" spc="-1" strike="noStrike">
                <a:solidFill>
                  <a:srgbClr val="660000"/>
                </a:solidFill>
                <a:latin typeface="Courier New"/>
              </a:rPr>
              <a:t>STOP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|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BD5-C6FE-49E7-B102-E6E31350222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ternative splic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111"/>
          <a:stretch/>
        </p:blipFill>
        <p:spPr>
          <a:xfrm>
            <a:off x="2590920" y="2678040"/>
            <a:ext cx="6553080" cy="4122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lternative mRNAs produced from same ge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is an intron not an intron…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segments treated as ex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360" y="3809880"/>
            <a:ext cx="2362320" cy="3048120"/>
            <a:chOff x="-360" y="3809880"/>
            <a:chExt cx="2362320" cy="304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flipH="1">
              <a:off x="608760" y="3809880"/>
              <a:ext cx="1752840" cy="1214640"/>
            </a:xfrm>
            <a:prstGeom prst="wedgeEllipseCallout">
              <a:avLst>
                <a:gd name="adj1" fmla="val 28347"/>
                <a:gd name="adj2" fmla="val 9967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Hard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o defin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 gene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B44-F273-463C-BBF8-454D8DD7A53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mai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odular architecture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many prote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eparate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unctiona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al reg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ded by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exon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 same “gene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75000" y="1886040"/>
            <a:ext cx="4869000" cy="4819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4F7-5860-4A58-91BE-F2FDFC8FA90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AAAAAA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214" name="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2240" y="2895480"/>
            <a:ext cx="1406160" cy="1495080"/>
            <a:chOff x="192240" y="2895480"/>
            <a:chExt cx="1406160" cy="1495080"/>
          </a:xfrm>
        </p:grpSpPr>
        <p:sp>
          <p:nvSpPr>
            <p:cNvPr id="218" name=""/>
            <p:cNvSpPr/>
            <p:nvPr/>
          </p:nvSpPr>
          <p:spPr>
            <a:xfrm>
              <a:off x="762120" y="289548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2240" y="396144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707880" y="2819520"/>
            <a:ext cx="1887480" cy="1906200"/>
            <a:chOff x="6707880" y="2819520"/>
            <a:chExt cx="1887480" cy="1906200"/>
          </a:xfrm>
        </p:grpSpPr>
        <p:sp>
          <p:nvSpPr>
            <p:cNvPr id="221" name=""/>
            <p:cNvSpPr/>
            <p:nvPr/>
          </p:nvSpPr>
          <p:spPr>
            <a:xfrm>
              <a:off x="8458200" y="2819520"/>
              <a:ext cx="0" cy="12189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7880" y="3961440"/>
              <a:ext cx="1887480" cy="764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55000" y="2819520"/>
            <a:ext cx="1887480" cy="1906200"/>
            <a:chOff x="1755000" y="2819520"/>
            <a:chExt cx="1887480" cy="1906200"/>
          </a:xfrm>
        </p:grpSpPr>
        <p:sp>
          <p:nvSpPr>
            <p:cNvPr id="224" name=""/>
            <p:cNvSpPr/>
            <p:nvPr/>
          </p:nvSpPr>
          <p:spPr>
            <a:xfrm>
              <a:off x="1828800" y="2819520"/>
              <a:ext cx="0" cy="12189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000" y="3961440"/>
              <a:ext cx="1887480" cy="764280"/>
            </a:xfrm>
            <a:prstGeom prst="rect">
              <a:avLst/>
            </a:prstGeom>
            <a:solidFill>
              <a:srgbClr val="007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2819520"/>
            <a:ext cx="4343040" cy="1113840"/>
            <a:chOff x="3124080" y="2819520"/>
            <a:chExt cx="4343040" cy="1113840"/>
          </a:xfrm>
        </p:grpSpPr>
        <p:sp>
          <p:nvSpPr>
            <p:cNvPr id="227" name=""/>
            <p:cNvSpPr/>
            <p:nvPr/>
          </p:nvSpPr>
          <p:spPr>
            <a:xfrm>
              <a:off x="3124080" y="2819520"/>
              <a:ext cx="175284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2819520"/>
              <a:ext cx="990360" cy="6858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2880" y="2819520"/>
              <a:ext cx="152640" cy="6858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257440" y="2819520"/>
              <a:ext cx="30492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09720" y="2819520"/>
              <a:ext cx="114300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562360" y="2819520"/>
              <a:ext cx="1904760" cy="76176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0040" y="3504240"/>
              <a:ext cx="1127160" cy="42912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tron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Transcriptional unit (gene?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241" name="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4840" y="2208960"/>
            <a:ext cx="27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2280" y="3123360"/>
            <a:ext cx="8915400" cy="368280"/>
            <a:chOff x="152280" y="3123360"/>
            <a:chExt cx="8915400" cy="368280"/>
          </a:xfrm>
        </p:grpSpPr>
        <p:sp>
          <p:nvSpPr>
            <p:cNvPr id="253" name=""/>
            <p:cNvSpPr/>
            <p:nvPr/>
          </p:nvSpPr>
          <p:spPr>
            <a:xfrm>
              <a:off x="152280" y="3200400"/>
              <a:ext cx="8915400" cy="22860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720" y="3123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259" name="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526760" y="4281480"/>
            <a:ext cx="6842520" cy="1357920"/>
            <a:chOff x="1526760" y="4281480"/>
            <a:chExt cx="6842520" cy="1357920"/>
          </a:xfrm>
        </p:grpSpPr>
        <p:grpSp>
          <p:nvGrpSpPr>
            <p:cNvPr id="262" name=""/>
            <p:cNvGrpSpPr/>
            <p:nvPr/>
          </p:nvGrpSpPr>
          <p:grpSpPr>
            <a:xfrm>
              <a:off x="1526760" y="4281480"/>
              <a:ext cx="6702840" cy="1357920"/>
              <a:chOff x="1526760" y="4281480"/>
              <a:chExt cx="6702840" cy="13579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1526760" y="527112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pre-mRN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516040" y="1431360"/>
            <a:ext cx="1349640" cy="1388160"/>
            <a:chOff x="2516040" y="1431360"/>
            <a:chExt cx="1349640" cy="1388160"/>
          </a:xfrm>
        </p:grpSpPr>
        <p:sp>
          <p:nvSpPr>
            <p:cNvPr id="270" name=""/>
            <p:cNvSpPr/>
            <p:nvPr/>
          </p:nvSpPr>
          <p:spPr>
            <a:xfrm>
              <a:off x="2590920" y="1600200"/>
              <a:ext cx="0" cy="12193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6040" y="1431360"/>
              <a:ext cx="1349640" cy="642600"/>
            </a:xfrm>
            <a:prstGeom prst="rect">
              <a:avLst/>
            </a:prstGeom>
            <a:solidFill>
              <a:srgbClr val="00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621560" y="1431360"/>
            <a:ext cx="1349640" cy="1388160"/>
            <a:chOff x="7621560" y="1431360"/>
            <a:chExt cx="1349640" cy="1388160"/>
          </a:xfrm>
        </p:grpSpPr>
        <p:sp>
          <p:nvSpPr>
            <p:cNvPr id="273" name=""/>
            <p:cNvSpPr/>
            <p:nvPr/>
          </p:nvSpPr>
          <p:spPr>
            <a:xfrm>
              <a:off x="7696080" y="1600200"/>
              <a:ext cx="0" cy="12193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560" y="1431360"/>
              <a:ext cx="134964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93440" y="5791320"/>
            <a:ext cx="4258440" cy="977760"/>
            <a:chOff x="2593440" y="5791320"/>
            <a:chExt cx="4258440" cy="977760"/>
          </a:xfrm>
        </p:grpSpPr>
        <p:grpSp>
          <p:nvGrpSpPr>
            <p:cNvPr id="276" name=""/>
            <p:cNvGrpSpPr/>
            <p:nvPr/>
          </p:nvGrpSpPr>
          <p:grpSpPr>
            <a:xfrm>
              <a:off x="2593440" y="5791320"/>
              <a:ext cx="4112280" cy="977760"/>
              <a:chOff x="2593440" y="5791320"/>
              <a:chExt cx="4112280" cy="9777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2593440" y="6400800"/>
                <a:ext cx="182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mature mRN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284" name="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9680" y="2819520"/>
            <a:ext cx="651960" cy="915120"/>
            <a:chOff x="2209680" y="2819520"/>
            <a:chExt cx="651960" cy="915120"/>
          </a:xfrm>
        </p:grpSpPr>
        <p:sp>
          <p:nvSpPr>
            <p:cNvPr id="291" name=""/>
            <p:cNvSpPr/>
            <p:nvPr/>
          </p:nvSpPr>
          <p:spPr>
            <a:xfrm>
              <a:off x="2209680" y="28195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11480" y="3366360"/>
              <a:ext cx="650160" cy="368280"/>
            </a:xfrm>
            <a:prstGeom prst="rect">
              <a:avLst/>
            </a:prstGeom>
            <a:solidFill>
              <a:srgbClr val="0f1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T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425000" y="2819520"/>
            <a:ext cx="652320" cy="915120"/>
            <a:chOff x="7425000" y="2819520"/>
            <a:chExt cx="652320" cy="915120"/>
          </a:xfrm>
        </p:grpSpPr>
        <p:sp>
          <p:nvSpPr>
            <p:cNvPr id="294" name=""/>
            <p:cNvSpPr/>
            <p:nvPr/>
          </p:nvSpPr>
          <p:spPr>
            <a:xfrm>
              <a:off x="8077320" y="28195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25000" y="3366360"/>
              <a:ext cx="650160" cy="368280"/>
            </a:xfrm>
            <a:prstGeom prst="rect">
              <a:avLst/>
            </a:prstGeom>
            <a:solidFill>
              <a:srgbClr val="0f1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T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895480" y="1553040"/>
            <a:ext cx="4724280" cy="1266480"/>
            <a:chOff x="2895480" y="1553040"/>
            <a:chExt cx="4724280" cy="1266480"/>
          </a:xfrm>
        </p:grpSpPr>
        <p:grpSp>
          <p:nvGrpSpPr>
            <p:cNvPr id="297" name=""/>
            <p:cNvGrpSpPr/>
            <p:nvPr/>
          </p:nvGrpSpPr>
          <p:grpSpPr>
            <a:xfrm>
              <a:off x="2895480" y="1553040"/>
              <a:ext cx="4724280" cy="1190160"/>
              <a:chOff x="2895480" y="1553040"/>
              <a:chExt cx="4724280" cy="11901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2895480" y="1905120"/>
                <a:ext cx="198144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657600" y="1980720"/>
                <a:ext cx="1295280" cy="68580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495680" y="1980720"/>
                <a:ext cx="609840" cy="76212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257800" y="1905120"/>
                <a:ext cx="83808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409720" y="1905120"/>
                <a:ext cx="1676520" cy="83808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562360" y="1905120"/>
                <a:ext cx="2057400" cy="761760"/>
              </a:xfrm>
              <a:prstGeom prst="line">
                <a:avLst/>
              </a:prstGeom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10240" y="1553040"/>
                <a:ext cx="988560" cy="429120"/>
              </a:xfrm>
              <a:prstGeom prst="rect">
                <a:avLst/>
              </a:prstGeom>
              <a:solidFill>
                <a:srgbClr val="404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on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flipV="1">
              <a:off x="5181480" y="1905120"/>
              <a:ext cx="0" cy="9144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307" name="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DFD-2B03-498A-B826-04B1CFE64DE7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39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de is redunda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ral codons for each amino acid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wobble” in the tRN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25320" indent="-2854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wobble” in the aminoacyl-tRNA synthetase enzyme that loads the tRNA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87800" y="685800"/>
            <a:ext cx="5056200" cy="6095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440" y="6854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versal co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11250" t="3000" r="0" b="0"/>
          <a:stretch/>
        </p:blipFill>
        <p:spPr>
          <a:xfrm>
            <a:off x="228600" y="4172040"/>
            <a:ext cx="327672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9B4-DC3F-4651-AAB4-F6742128743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FD8-DF8C-44E7-968E-85F93D36A8B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315" name="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89548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2819520"/>
            <a:ext cx="0" cy="12189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819520"/>
            <a:ext cx="0" cy="12189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2819520"/>
            <a:ext cx="175284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2819520"/>
            <a:ext cx="990360" cy="68580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819520"/>
            <a:ext cx="152640" cy="68580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257440" y="2819520"/>
            <a:ext cx="30492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409720" y="2819520"/>
            <a:ext cx="114300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562360" y="2819520"/>
            <a:ext cx="1904760" cy="761760"/>
          </a:xfrm>
          <a:prstGeom prst="line">
            <a:avLst/>
          </a:prstGeom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0040" y="3503880"/>
            <a:ext cx="1127160" cy="4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n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Transcriptional uni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335" name="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4840" y="2208960"/>
            <a:ext cx="27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350" name="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30360" y="4281480"/>
            <a:ext cx="6838920" cy="1357200"/>
            <a:chOff x="1530360" y="4281480"/>
            <a:chExt cx="6838920" cy="1357200"/>
          </a:xfrm>
        </p:grpSpPr>
        <p:grpSp>
          <p:nvGrpSpPr>
            <p:cNvPr id="353" name=""/>
            <p:cNvGrpSpPr/>
            <p:nvPr/>
          </p:nvGrpSpPr>
          <p:grpSpPr>
            <a:xfrm>
              <a:off x="1600200" y="4281480"/>
              <a:ext cx="6629400" cy="1357200"/>
              <a:chOff x="1600200" y="4281480"/>
              <a:chExt cx="6629400" cy="13572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2089080" y="527184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90920" y="1600200"/>
            <a:ext cx="0" cy="12193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1600200"/>
            <a:ext cx="0" cy="12193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590920" y="5791320"/>
            <a:ext cx="4260960" cy="976320"/>
            <a:chOff x="2590920" y="5791320"/>
            <a:chExt cx="4260960" cy="976320"/>
          </a:xfrm>
        </p:grpSpPr>
        <p:grpSp>
          <p:nvGrpSpPr>
            <p:cNvPr id="363" name=""/>
            <p:cNvGrpSpPr/>
            <p:nvPr/>
          </p:nvGrpSpPr>
          <p:grpSpPr>
            <a:xfrm>
              <a:off x="2590920" y="5791320"/>
              <a:ext cx="4114800" cy="976320"/>
              <a:chOff x="2590920" y="5791320"/>
              <a:chExt cx="4114800" cy="97632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2590920" y="640080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371" name="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09680" y="28195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77320" y="28195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95480" y="1905120"/>
            <a:ext cx="198144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57600" y="1980720"/>
            <a:ext cx="1295280" cy="6858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1980720"/>
            <a:ext cx="609840" cy="76212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257800" y="1905120"/>
            <a:ext cx="83808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409720" y="1905120"/>
            <a:ext cx="1676520" cy="83808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562360" y="1905120"/>
            <a:ext cx="2057400" cy="7617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10240" y="1553040"/>
            <a:ext cx="988560" cy="4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181480" y="1905120"/>
            <a:ext cx="0" cy="91440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388" name="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AC6A-E674-4699-BE7B-5D00EC97508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48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3547" b="3357"/>
          <a:stretch/>
        </p:blipFill>
        <p:spPr>
          <a:xfrm>
            <a:off x="4848120" y="990720"/>
            <a:ext cx="4219560" cy="5713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160" y="5942520"/>
            <a:ext cx="4470120" cy="7642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hen do mutations affect the next generation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int muta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ngle base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-pair substitu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ilent mut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amino acid chang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ndancy in co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ssen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ange amino aci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sen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hange to stop cod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1C50-0502-4E0C-9FA0-908BACEF62F9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oint mutation leads to Sickle cell anemi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4048"/>
          <a:stretch/>
        </p:blipFill>
        <p:spPr>
          <a:xfrm>
            <a:off x="1066680" y="1882800"/>
            <a:ext cx="7174080" cy="4594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86200" cy="4572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kind of mu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AD2-106A-4BA5-9A41-C69029BEB05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ckle cell anem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4542"/>
          <a:stretch/>
        </p:blipFill>
        <p:spPr>
          <a:xfrm>
            <a:off x="762120" y="1511280"/>
            <a:ext cx="823572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85BB-F316-4AAE-8290-EEE1A6D6D2D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tation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4776840" y="380880"/>
            <a:ext cx="436716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meshif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ift in the reading fr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anges everything “downstream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er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ing base(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le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osing base(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0AF-BF38-4073-96EE-ECB52B91246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917720" cy="265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8320" y="1905120"/>
            <a:ext cx="3809880" cy="2590560"/>
          </a:xfrm>
          <a:prstGeom prst="wedgeEllipseCallout">
            <a:avLst>
              <a:gd name="adj1" fmla="val -80416"/>
              <a:gd name="adj2" fmla="val 449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’s th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value of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utations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EF0-61D4-4FFB-9B80-20AE4DADE314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7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89880" y="327636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N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cess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79204" b="15894"/>
          <a:stretch/>
        </p:blipFill>
        <p:spPr>
          <a:xfrm>
            <a:off x="7121520" y="685800"/>
            <a:ext cx="1031760" cy="2362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C465-1745-44FA-9EAE-12EBEF394379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cription -- another look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process of transcription includes many points of cont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n to start reading DNA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re to start reading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re to stop reading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diting the mR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cting mRNA as it travels through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3010-983F-492F-9768-30E8DDAA103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1:44:59Z</dcterms:created>
  <dc:creator>Justin</dc:creator>
  <dc:description>All Rights Reserved. Copyright 2003. WD Interactive.</dc:description>
  <cp:keywords>Education Biology Zone Kim Foglia</cp:keywords>
  <dc:language>en-US</dc:language>
  <cp:lastModifiedBy> </cp:lastModifiedBy>
  <cp:lastPrinted>2006-03-06T02:21:26Z</cp:lastPrinted>
  <dcterms:modified xsi:type="dcterms:W3CDTF">2007-01-01T21:58:05Z</dcterms:modified>
  <cp:revision>150</cp:revision>
  <dc:subject>AP &amp; Regents Biology</dc:subject>
  <dc:title>Chapter  17.</dc:title>
</cp:coreProperties>
</file>